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24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3C3F-A3D3-4384-ADEA-FCB19EC71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4CBE-CE2F-4B4A-9DAB-E02A12DF0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D263-9993-4BF5-9086-36CF1CBFE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9257-7143-48F5-9FCE-ECCC80244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0D23-2389-4A8F-8C01-6A50B18F5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0900-5221-4814-AA98-D78751934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грађ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8288-1B10-4184-BA54-EF8F6F0D4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482A-983D-4CF1-B024-299BBE6F6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FACF-58BB-4AA2-BAB1-D2521F63C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3FA2-8B62-4A3C-A52C-1CE16B539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0BF9-1B40-4C6A-8F54-1D9F9C758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7976-6746-4886-B634-CF7090A64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BDC2-34AA-478E-9F4B-6AB84518A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4E66-81EB-4CFC-8001-8717AE0A1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77DF-FD80-43A2-89B8-101CCAEB6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8191-C305-4BB4-87C7-BAA463FE4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2D56-B1EC-4B5F-B903-6B7301D7C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DEBA-08D0-418B-9724-7C89C28D9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CA15-C0BD-438C-9D5D-68E2F0380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20B5-630D-4DA7-85B7-6C9064EB1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C3B1-E369-43DD-89DD-6D52FF702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3BC4-454F-4658-B2F4-6F8DDDD30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BFFE-6B29-4DE1-8244-A5A97842D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E1F7-0799-4A86-B0E5-1B2344A64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61A9-77E1-421C-897A-B28BEF928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399E-7F86-4C05-8A38-86B775C8B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8FCC-CA81-4890-BA81-7E3555F3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DEC5-9E12-47FF-81B8-5F1CFF53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6CEF-0720-4605-8180-818CA331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1C63-C95A-4C15-A326-56F14A2AB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B8A4-76CC-4A71-95F5-AF271D98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02A6-2388-42EB-A014-DB2F98AA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BBF6-5AFD-4A00-A866-E8A38D0B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4BCE-AE18-45C8-88FA-928F2343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70C1-1953-4C28-9933-9431E7D3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2733-4CEC-4AE6-A7E5-2FCBB3FB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F201-72CA-4E47-9D97-8900AAAB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3F32-B248-46E3-B9F4-9DB9879A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2BBB-4794-4202-89C1-D5AD87624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431A-17E1-4157-AA13-1B5BD4B99D9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66"/>
                </a:solidFill>
                <a:latin typeface="Palatino Linotype"/>
              </a:rPr>
              <a:t>ВАЂЕЊЕ ЗУБА И КОМПЛИКАЦИЈЕ У ТОКУ ВАЂЕЊА ЗУБА</a:t>
            </a: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     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1120" y="4060440"/>
            <a:ext cx="864252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3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6 -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Тематске јединице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Индикације и контраиндикације за вађење зуба, инструментаријум,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технике вађења зуба, вађење заломњених зуба, хируршко вађење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заосталих коренова, компликације у току вађења зуб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                  </a:t>
            </a:r>
            <a:r>
              <a:rPr b="0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Palatino Linotype"/>
              </a:rPr>
              <a:t>Доц. др Мирослав Вас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82480" y="6180120"/>
            <a:ext cx="786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Copyright © 201</a:t>
            </a:r>
            <a:r>
              <a:rPr b="0" lang="sr-Latn-R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 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0A92-A926-4B68-BD48-AEA2985EE33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ехника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469800" y="1600200"/>
            <a:ext cx="8169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 почетка вађења зуба потребно је одабрати одговарајуће инструме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ФАЗЕ ВАЂЕЊА ЗУБА</a:t>
            </a: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1. ОДВАЈАЊЕ ПРИПОЈА ГИНГИВЕ СА ВЕСТИБУЛАРНЕ И ОРАЛНЕ СТРАНЕ, ОД ВРАТА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C:\Users\Zoran\Downloads\oralna hirurgija\slike\imagesss.jpg"/>
          <p:cNvPicPr/>
          <p:nvPr/>
        </p:nvPicPr>
        <p:blipFill>
          <a:blip r:embed="rId1"/>
          <a:stretch/>
        </p:blipFill>
        <p:spPr>
          <a:xfrm>
            <a:off x="2728800" y="4073400"/>
            <a:ext cx="352908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0" y="6424560"/>
            <a:ext cx="3782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DABA-4CEB-444F-98E9-3775FD03A79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ехника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480960" y="1768320"/>
            <a:ext cx="806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2.  АПЛИКАЦИЈА И РЕТЕНЦИЈА КЛЕШТА НА ВРАТ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rcRect l="630" t="26818" r="2425" b="2779"/>
          <a:stretch/>
        </p:blipFill>
        <p:spPr>
          <a:xfrm>
            <a:off x="4836960" y="2708280"/>
            <a:ext cx="4307040" cy="21304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8"/>
          <p:cNvSpPr/>
          <p:nvPr/>
        </p:nvSpPr>
        <p:spPr>
          <a:xfrm>
            <a:off x="577800" y="2570040"/>
            <a:ext cx="4837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дни краци одговарајућих клешта се утискују испод гингиве, адаптирају на врат зуба, односно у предео фуркације код мол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тезањем ручки, клешта се чврсто фиксирају на з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0" y="6424560"/>
            <a:ext cx="3976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05D0-7D83-4704-A36E-D27F4D4B75C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ехника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469800" y="1768320"/>
            <a:ext cx="8481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3. ДИСЛОКАЦИЈА ИЛИ ПОМЕРАЊЕ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крети луксације ( померање у вестибуларном и оралном павцу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крети ротације ( окретање зуба око његове осовине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мбиновани покр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C:\Users\Zoran\Downloads\oralna hirurgija\slike\slide-20-728 (1).jpg"/>
          <p:cNvPicPr/>
          <p:nvPr/>
        </p:nvPicPr>
        <p:blipFill>
          <a:blip r:embed="rId1"/>
          <a:srcRect l="-175" t="0" r="0" b="52701"/>
          <a:stretch/>
        </p:blipFill>
        <p:spPr>
          <a:xfrm>
            <a:off x="985680" y="4013280"/>
            <a:ext cx="1441440" cy="1689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C:\Users\Zoran\Downloads\oralna hirurgija\slike\slide-20-728 (1).jpg"/>
          <p:cNvPicPr/>
          <p:nvPr/>
        </p:nvPicPr>
        <p:blipFill>
          <a:blip r:embed="rId2"/>
          <a:srcRect l="651" t="57690" r="2328" b="0"/>
          <a:stretch/>
        </p:blipFill>
        <p:spPr>
          <a:xfrm>
            <a:off x="2406600" y="4017960"/>
            <a:ext cx="1395360" cy="1684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C:\Users\Zoran\Downloads\oralna hirurgija\slike\slide-21-728.jpg"/>
          <p:cNvPicPr/>
          <p:nvPr/>
        </p:nvPicPr>
        <p:blipFill>
          <a:blip r:embed="rId3"/>
          <a:stretch/>
        </p:blipFill>
        <p:spPr>
          <a:xfrm>
            <a:off x="3967200" y="4006800"/>
            <a:ext cx="1619280" cy="1773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C:\Users\Zoran\Downloads\oralna hirurgija\slike\slide-18-728.jpg"/>
          <p:cNvPicPr/>
          <p:nvPr/>
        </p:nvPicPr>
        <p:blipFill>
          <a:blip r:embed="rId4"/>
          <a:stretch/>
        </p:blipFill>
        <p:spPr>
          <a:xfrm>
            <a:off x="5854680" y="4089240"/>
            <a:ext cx="1981080" cy="16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ехника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Date Placeholder 3"/>
          <p:cNvSpPr/>
          <p:nvPr/>
        </p:nvSpPr>
        <p:spPr>
          <a:xfrm>
            <a:off x="0" y="6424560"/>
            <a:ext cx="3782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7828-C2F9-4D8E-9746-B2614BBF3A4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C:\Users\Zoran\Downloads\oralna hirurgija\slike\slide-21-728.jpg"/>
          <p:cNvPicPr/>
          <p:nvPr/>
        </p:nvPicPr>
        <p:blipFill>
          <a:blip r:embed="rId1"/>
          <a:stretch/>
        </p:blipFill>
        <p:spPr>
          <a:xfrm>
            <a:off x="585720" y="1763640"/>
            <a:ext cx="1619280" cy="18860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7"/>
          <p:cNvSpPr/>
          <p:nvPr/>
        </p:nvSpPr>
        <p:spPr>
          <a:xfrm>
            <a:off x="2490840" y="1792440"/>
            <a:ext cx="635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кретима ротације ваде се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Горњи централни секутић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оњи премола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2"/>
          <a:srcRect l="2242" t="983" r="2595" b="2595"/>
          <a:stretch/>
        </p:blipFill>
        <p:spPr>
          <a:xfrm>
            <a:off x="6184800" y="1528920"/>
            <a:ext cx="2718000" cy="2754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C:\Users\Zoran\Downloads\oralna hirurgija\slike\slide-20-728 (1).jpg"/>
          <p:cNvPicPr/>
          <p:nvPr/>
        </p:nvPicPr>
        <p:blipFill>
          <a:blip r:embed="rId3"/>
          <a:srcRect l="2328" t="0" r="0" b="52701"/>
          <a:stretch/>
        </p:blipFill>
        <p:spPr>
          <a:xfrm>
            <a:off x="179280" y="4289400"/>
            <a:ext cx="1405080" cy="1690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C:\Users\Zoran\Downloads\oralna hirurgija\slike\slide-20-728 (1).jpg"/>
          <p:cNvPicPr/>
          <p:nvPr/>
        </p:nvPicPr>
        <p:blipFill>
          <a:blip r:embed="rId4"/>
          <a:srcRect l="1477" t="56743" r="0" b="-3548"/>
          <a:stretch/>
        </p:blipFill>
        <p:spPr>
          <a:xfrm>
            <a:off x="1446120" y="4309920"/>
            <a:ext cx="1516320" cy="178596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1"/>
          <p:cNvSpPr/>
          <p:nvPr/>
        </p:nvSpPr>
        <p:spPr>
          <a:xfrm>
            <a:off x="3213000" y="4692600"/>
            <a:ext cx="431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ПОКРЕТИМА ЛУКСАЦИЈЕ СВИ ОСТАЛИ ЗУ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ехника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0" y="6424560"/>
            <a:ext cx="379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9787-1622-4379-B7F0-20D65C950BB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517680" y="1828800"/>
            <a:ext cx="815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4. ИЗВЛАЧЕЊЕ ЗУБА ИЗ АЛВЕ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C:\Users\Zoran\Downloads\oralna hirurgija\slike\imagesva.jpg"/>
          <p:cNvPicPr/>
          <p:nvPr/>
        </p:nvPicPr>
        <p:blipFill>
          <a:blip r:embed="rId1"/>
          <a:stretch/>
        </p:blipFill>
        <p:spPr>
          <a:xfrm>
            <a:off x="5438880" y="1954080"/>
            <a:ext cx="3203640" cy="3203640"/>
          </a:xfrm>
          <a:prstGeom prst="rect">
            <a:avLst/>
          </a:prstGeom>
          <a:ln w="0">
            <a:noFill/>
          </a:ln>
        </p:spPr>
      </p:pic>
      <p:sp>
        <p:nvSpPr>
          <p:cNvPr id="152" name="TextBox 7"/>
          <p:cNvSpPr/>
          <p:nvPr/>
        </p:nvSpPr>
        <p:spPr>
          <a:xfrm>
            <a:off x="473040" y="2909880"/>
            <a:ext cx="487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звлачење зуба се врши лагано и по правилу, према вестибуларној стра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брињавање ран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Date Placeholder 3"/>
          <p:cNvSpPr/>
          <p:nvPr/>
        </p:nvSpPr>
        <p:spPr>
          <a:xfrm>
            <a:off x="0" y="6424560"/>
            <a:ext cx="3782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0CAC-D5D1-49F9-AEF1-613B361AED3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7"/>
          <p:cNvSpPr/>
          <p:nvPr/>
        </p:nvSpPr>
        <p:spPr>
          <a:xfrm>
            <a:off x="409680" y="1335240"/>
            <a:ext cx="8313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сле уклањања зуба из алвеоле треба проверити да ли је он извађен у целости или н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Обрада ране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клањање гранулационог ткива, заломљеног септума или кортикалне ламеле односно њихово скраћење клештима за к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сецање маказицама нагњечене гингиве и хиперпластичних папила које упадају у алвео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шивање поцепане гингиве у дужини од преко 0,5 ц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епозиција кортикалних ламела стезањем алвеоле преко г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C:\Users\Zoran\Downloads\oralna hirurgija\slike\imagesmm.jpg"/>
          <p:cNvPicPr/>
          <p:nvPr/>
        </p:nvPicPr>
        <p:blipFill>
          <a:blip r:embed="rId1"/>
          <a:stretch/>
        </p:blipFill>
        <p:spPr>
          <a:xfrm>
            <a:off x="442800" y="4689360"/>
            <a:ext cx="1876680" cy="1552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C:\Users\Zoran\Downloads\oralna hirurgija\slike\imagesmmnmnmn.jpg"/>
          <p:cNvPicPr/>
          <p:nvPr/>
        </p:nvPicPr>
        <p:blipFill>
          <a:blip r:embed="rId2"/>
          <a:stretch/>
        </p:blipFill>
        <p:spPr>
          <a:xfrm>
            <a:off x="3094200" y="46990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C:\Users\Zoran\Downloads\oralna hirurgija\slike\imagesnbn.jpg"/>
          <p:cNvPicPr/>
          <p:nvPr/>
        </p:nvPicPr>
        <p:blipFill>
          <a:blip r:embed="rId3"/>
          <a:stretch/>
        </p:blipFill>
        <p:spPr>
          <a:xfrm>
            <a:off x="6273720" y="474336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3"/>
          <p:cNvSpPr/>
          <p:nvPr/>
        </p:nvSpPr>
        <p:spPr>
          <a:xfrm>
            <a:off x="0" y="6424560"/>
            <a:ext cx="3782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60F7-D754-4D48-8A52-5DA27F3E51A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заломљених зуба – компликовано вађењ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469800" y="1708200"/>
            <a:ext cx="8169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ећина екстракција зуба, применом правилног поступка, завршава се тзв. једноставним вађењем. Међутим, у око 10 % случајева настаје прелом круне или корена зуба, што изискује примену другачијих поступака – “компликовано вађење 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C:\Users\Zoran\Downloads\oralna hirurgija\slike\slide-19-728 (1).jpg"/>
          <p:cNvPicPr/>
          <p:nvPr/>
        </p:nvPicPr>
        <p:blipFill>
          <a:blip r:embed="rId1"/>
          <a:stretch/>
        </p:blipFill>
        <p:spPr>
          <a:xfrm>
            <a:off x="7682040" y="2766960"/>
            <a:ext cx="1190520" cy="3657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C:\Users\Zoran\Downloads\oralna hirurgija\slike\slide-27-728.jpg"/>
          <p:cNvPicPr/>
          <p:nvPr/>
        </p:nvPicPr>
        <p:blipFill>
          <a:blip r:embed="rId2"/>
          <a:stretch/>
        </p:blipFill>
        <p:spPr>
          <a:xfrm>
            <a:off x="6075360" y="3619440"/>
            <a:ext cx="1276200" cy="20480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8"/>
          <p:cNvSpPr/>
          <p:nvPr/>
        </p:nvSpPr>
        <p:spPr>
          <a:xfrm>
            <a:off x="493560" y="3441600"/>
            <a:ext cx="5534280" cy="31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и разлози прелома зуба с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- Каријесом деструирана кру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повољна грађа вилице и остеоскле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ужина , облик и масивност кор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рој морфологија и међусобни однос коре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диопатска ресорпција корена- ризали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EA6D-2764-4BE2-A69A-07C182541B3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заломљених зуба – компликовано вађењ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469800" y="1528920"/>
            <a:ext cx="818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ВАЂЕЊЕ ЗАЛОМЉЕНИХ ЈЕДНОКОРЕНИХ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9" descr="C:\Users\Zoran\Downloads\oralna hirurgija\slike\slide-30-728.jpg"/>
          <p:cNvPicPr/>
          <p:nvPr/>
        </p:nvPicPr>
        <p:blipFill>
          <a:blip r:embed="rId1"/>
          <a:stretch/>
        </p:blipFill>
        <p:spPr>
          <a:xfrm>
            <a:off x="839880" y="3670200"/>
            <a:ext cx="2062080" cy="2700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C:\Users\Zoran\Downloads\oralna hirurgija\slike\ju1.jpg"/>
          <p:cNvPicPr/>
          <p:nvPr/>
        </p:nvPicPr>
        <p:blipFill>
          <a:blip r:embed="rId2"/>
          <a:stretch/>
        </p:blipFill>
        <p:spPr>
          <a:xfrm>
            <a:off x="3705120" y="3549600"/>
            <a:ext cx="1505160" cy="293364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1"/>
          <p:cNvSpPr/>
          <p:nvPr/>
        </p:nvSpPr>
        <p:spPr>
          <a:xfrm>
            <a:off x="528480" y="2057400"/>
            <a:ext cx="8374320" cy="19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лом зуба у висини врата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лом испод или изнад нивоа алвеоле у првој трећини кор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лом у пределу врха корена ( апикална трећин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C:\Users\Zoran\Downloads\oralna hirurgija\slike\slide-19-728 (1).jpg"/>
          <p:cNvPicPr/>
          <p:nvPr/>
        </p:nvPicPr>
        <p:blipFill>
          <a:blip r:embed="rId3"/>
          <a:srcRect l="5534" t="52303" r="0" b="3947"/>
          <a:stretch/>
        </p:blipFill>
        <p:spPr>
          <a:xfrm>
            <a:off x="6532560" y="3983040"/>
            <a:ext cx="156996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5D72-EBF1-40C2-9B03-4635F7F0DD1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Вађење заломљених зуба – компликовано вађење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TextBox 6"/>
          <p:cNvSpPr/>
          <p:nvPr/>
        </p:nvSpPr>
        <p:spPr>
          <a:xfrm>
            <a:off x="1166760" y="19494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8"/>
          <p:cNvSpPr/>
          <p:nvPr/>
        </p:nvSpPr>
        <p:spPr>
          <a:xfrm>
            <a:off x="372960" y="1936800"/>
            <a:ext cx="81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ВАЂЕЊЕ ЗАЛОМЉЕНИХ ГОРЊИХ МОЛАРА И ПРЕМОЛ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9" descr="C:\Users\Zoran\Downloads\oralna hirurgija\slike\step1.png"/>
          <p:cNvPicPr/>
          <p:nvPr/>
        </p:nvPicPr>
        <p:blipFill>
          <a:blip r:embed="rId1"/>
          <a:stretch/>
        </p:blipFill>
        <p:spPr>
          <a:xfrm>
            <a:off x="5127480" y="2666880"/>
            <a:ext cx="3589560" cy="3132360"/>
          </a:xfrm>
          <a:prstGeom prst="rect">
            <a:avLst/>
          </a:prstGeom>
          <a:ln w="0">
            <a:noFill/>
          </a:ln>
        </p:spPr>
      </p:pic>
      <p:sp>
        <p:nvSpPr>
          <p:cNvPr id="185" name="TextBox 10"/>
          <p:cNvSpPr/>
          <p:nvPr/>
        </p:nvSpPr>
        <p:spPr>
          <a:xfrm>
            <a:off x="355680" y="3165480"/>
            <a:ext cx="4655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д прелома горњих молара не треба покушавати вађење клешт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боље је приступити </a:t>
            </a: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сепарацији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коренова и њиховом појединачном вађењ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424560"/>
            <a:ext cx="3727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8C8B-52E5-48CF-B005-892EE0D0AF0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заломљених зуба – компликовано вађењ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TextBox 7"/>
          <p:cNvSpPr/>
          <p:nvPr/>
        </p:nvSpPr>
        <p:spPr>
          <a:xfrm>
            <a:off x="480960" y="1828800"/>
            <a:ext cx="8061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ВАЂЕЊЕ ЗАЛОМЉЕНИХ ДОЊИХ МОЛ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епарација у вестибуло-оралном прав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во се вадо дистални па мезијални кор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авац вађења зависи од повијености кор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C:\Users\Zoran\Downloads\oralna hirurgija\slike\imagesCATJGBLO.jpg"/>
          <p:cNvPicPr/>
          <p:nvPr/>
        </p:nvPicPr>
        <p:blipFill>
          <a:blip r:embed="rId1"/>
          <a:stretch/>
        </p:blipFill>
        <p:spPr>
          <a:xfrm>
            <a:off x="426960" y="3780000"/>
            <a:ext cx="2835360" cy="2124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C:\Users\Zoran\Downloads\oralna hirurgija\slike\iwO6b-fMyP.Vcsg4cRqRqA_m.png"/>
          <p:cNvPicPr/>
          <p:nvPr/>
        </p:nvPicPr>
        <p:blipFill>
          <a:blip r:embed="rId2"/>
          <a:stretch/>
        </p:blipFill>
        <p:spPr>
          <a:xfrm>
            <a:off x="3284640" y="3762360"/>
            <a:ext cx="2927160" cy="2197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C:\Users\Zoran\Downloads\oralna hirurgija\slike\HXb9Re0PqkB.sYDShDd0Rg_m.png"/>
          <p:cNvPicPr/>
          <p:nvPr/>
        </p:nvPicPr>
        <p:blipFill>
          <a:blip r:embed="rId3"/>
          <a:stretch/>
        </p:blipFill>
        <p:spPr>
          <a:xfrm>
            <a:off x="6566040" y="4186080"/>
            <a:ext cx="2296800" cy="17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0" y="6424560"/>
            <a:ext cx="3754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F917-1454-42B1-93AF-7DA87AF93D1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469800" y="1913040"/>
            <a:ext cx="8156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ВАЂЕЊЕ ЗУБА ЈЕ СКУП ПОСТУПАКА СА ЦИЉЕМ ДА СЕ, УЗ ПРИМЕНУ ОДГОВАРАЈУЋЕ СИЛЕ, ЗУБ ОДВОЈИ ОД АЛВЕОЛЕ И УКЛОНИ ИЗ 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C:\Users\Zoran\Downloads\oralna hirurgija\slike\imagesbh.jpg"/>
          <p:cNvPicPr/>
          <p:nvPr/>
        </p:nvPicPr>
        <p:blipFill>
          <a:blip r:embed="rId1"/>
          <a:srcRect l="24112" t="2882" r="17158" b="3142"/>
          <a:stretch/>
        </p:blipFill>
        <p:spPr>
          <a:xfrm>
            <a:off x="6894360" y="3657600"/>
            <a:ext cx="2076480" cy="2658960"/>
          </a:xfrm>
          <a:prstGeom prst="rect">
            <a:avLst/>
          </a:prstGeom>
          <a:ln w="0">
            <a:noFill/>
          </a:ln>
        </p:spPr>
      </p:pic>
      <p:sp>
        <p:nvSpPr>
          <p:cNvPr id="67" name="TextBox 8"/>
          <p:cNvSpPr/>
          <p:nvPr/>
        </p:nvSpPr>
        <p:spPr>
          <a:xfrm>
            <a:off x="565200" y="3357720"/>
            <a:ext cx="6100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уб је у алвеоли фиксиран многобројним колагеним влакнима, распоређеним у различитим правцима, који представљају основни део периодонцију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току вађења зуба одговарајућим покретима  се кидају поједина периодонтална влакна  и шири зубна алвеола што омогућава вађење зуба без примене јаке си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0" y="6424560"/>
            <a:ext cx="3740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F3A3-06AF-4150-8B57-A10DF7B7A3F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заломљених зуба – хируршко вађењ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TextBox 7"/>
          <p:cNvSpPr/>
          <p:nvPr/>
        </p:nvSpPr>
        <p:spPr>
          <a:xfrm>
            <a:off x="480960" y="2044800"/>
            <a:ext cx="8229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појединим случајевима, вађење заломљеног корена може најбезбедније да се изведе хируршким путем, односно трепанацијом алвеоле после одизања мукопериосталног реж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да су у питању корени који су дуже време заостали у вилици, то је и једини нач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9" descr="C:\Users\Zoran\Downloads\oralna hirurgija\slike\imagesopo.jpg"/>
          <p:cNvPicPr/>
          <p:nvPr/>
        </p:nvPicPr>
        <p:blipFill>
          <a:blip r:embed="rId1"/>
          <a:srcRect l="113" t="18426" r="51266" b="1952"/>
          <a:stretch/>
        </p:blipFill>
        <p:spPr>
          <a:xfrm>
            <a:off x="3621240" y="3886200"/>
            <a:ext cx="1697040" cy="25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424560"/>
            <a:ext cx="4017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ED50-40CC-47D0-B156-56C27E43358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заломљених зуба – хируршко вађењ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TextBox 7"/>
          <p:cNvSpPr/>
          <p:nvPr/>
        </p:nvSpPr>
        <p:spPr>
          <a:xfrm>
            <a:off x="517680" y="1768320"/>
            <a:ext cx="8192880" cy="35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ИНДИКАЦИЈЕ ЗА ПРИМЕНУ ОВОГ МЕТОДА СУ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да је врх корена изразито повијен или маљича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да постоји ризик од утискивања заломљеног корена у суседне анатомске структуре ( максиларни синус, мандибуларни канал, перимандибуларни просто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да грађа вилице изузетно отежава вађење кроз алвео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да је корен заостао, а рана зара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0" y="6424560"/>
            <a:ext cx="3754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08C3-2447-4B1A-805C-1029EF95CF6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млечних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09" name="Picture 6" descr="C:\Users\Zoran\Downloads\oralna hirurgija\slike\imagemle.jpg"/>
          <p:cNvPicPr/>
          <p:nvPr/>
        </p:nvPicPr>
        <p:blipFill>
          <a:blip r:embed="rId1"/>
          <a:stretch/>
        </p:blipFill>
        <p:spPr>
          <a:xfrm>
            <a:off x="593640" y="1623960"/>
            <a:ext cx="3192480" cy="2340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C:\Users\Zoran\Downloads\oralna hirurgija\slike\imageml.jpg"/>
          <p:cNvPicPr/>
          <p:nvPr/>
        </p:nvPicPr>
        <p:blipFill>
          <a:blip r:embed="rId2"/>
          <a:stretch/>
        </p:blipFill>
        <p:spPr>
          <a:xfrm>
            <a:off x="4799160" y="1704960"/>
            <a:ext cx="3929040" cy="22687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7"/>
          <p:cNvSpPr/>
          <p:nvPr/>
        </p:nvSpPr>
        <p:spPr>
          <a:xfrm>
            <a:off x="601560" y="4427640"/>
            <a:ext cx="8205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принципу, млечни зуби се ваде на исти начин као и стални зуб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ентген снимак је од посебног знацаја за планирање екстракције млечних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 овом снимку одређује се однос коренова млечног зуба са сталним замеником, као и степен ресорпције коренова млечног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3"/>
          <p:cNvSpPr/>
          <p:nvPr/>
        </p:nvSpPr>
        <p:spPr>
          <a:xfrm>
            <a:off x="0" y="6424560"/>
            <a:ext cx="3976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EFAC-29A6-45CA-947C-D31CBC90B78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Упутства после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469800" y="1492200"/>
            <a:ext cx="8109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збегавати храну док траје анесте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ну не треба испир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ећ следећег дана одржавати нормалну хигије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 потреби користити аналгетик без без ацетил-салицилне кисел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Хладан облог споља у првих 12 сати након вађ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случају крварења јавити се дежурној служб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ко је после интервенције у рану стављено неко страно тело обавезно заказати контролни преглед најкасније у року од 48 с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0" y="6424560"/>
            <a:ext cx="3935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1720-2D31-4D21-A5D2-0BA1319097E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55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TextBox 11"/>
          <p:cNvSpPr/>
          <p:nvPr/>
        </p:nvSpPr>
        <p:spPr>
          <a:xfrm>
            <a:off x="493560" y="1442880"/>
            <a:ext cx="806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1.  ФРАКТУРА КРУНЕ ИЛИ КОРЕНА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2" descr="C:\Users\Zoran\Downloads\oralna hirurgija\slike\20050122294a379efc01d373.99813001.JPG"/>
          <p:cNvPicPr/>
          <p:nvPr/>
        </p:nvPicPr>
        <p:blipFill>
          <a:blip r:embed="rId1"/>
          <a:stretch/>
        </p:blipFill>
        <p:spPr>
          <a:xfrm>
            <a:off x="1355760" y="2001960"/>
            <a:ext cx="6372360" cy="22669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3"/>
          <p:cNvSpPr/>
          <p:nvPr/>
        </p:nvSpPr>
        <p:spPr>
          <a:xfrm>
            <a:off x="360360" y="4740120"/>
            <a:ext cx="8483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е се јавља услед анатомских аномалија коренова, или је реч о погрешној техници вађења зуба ( лош избор клешта, лоша апликација клешта као и употреба погрешних и грубих покрета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Date Placeholder 3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C275-87FF-4D81-BF8B-97B932DE8CF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149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TextBox 8"/>
          <p:cNvSpPr/>
          <p:nvPr/>
        </p:nvSpPr>
        <p:spPr>
          <a:xfrm>
            <a:off x="433440" y="1744560"/>
            <a:ext cx="824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2. ПОВРЕДЕ МЕКИХ ТК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9" descr=""/>
          <p:cNvPicPr/>
          <p:nvPr/>
        </p:nvPicPr>
        <p:blipFill>
          <a:blip r:embed="rId1"/>
          <a:srcRect l="0" t="8196" r="4390" b="11359"/>
          <a:stretch/>
        </p:blipFill>
        <p:spPr>
          <a:xfrm>
            <a:off x="368280" y="2538360"/>
            <a:ext cx="3414600" cy="2052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"/>
          <p:cNvPicPr/>
          <p:nvPr/>
        </p:nvPicPr>
        <p:blipFill>
          <a:blip r:embed="rId2"/>
          <a:stretch/>
        </p:blipFill>
        <p:spPr>
          <a:xfrm>
            <a:off x="5049720" y="2619360"/>
            <a:ext cx="3517920" cy="20509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11"/>
          <p:cNvSpPr/>
          <p:nvPr/>
        </p:nvSpPr>
        <p:spPr>
          <a:xfrm>
            <a:off x="1852560" y="5186520"/>
            <a:ext cx="510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ермичке повре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8506-BA35-4FEF-9F19-D0FE5C3E1A8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149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36" name="Picture 11" descr="C:\Users\Zoran\Downloads\oralna hirurgija\slike\imagespolo.jpg"/>
          <p:cNvPicPr/>
          <p:nvPr/>
        </p:nvPicPr>
        <p:blipFill>
          <a:blip r:embed="rId1"/>
          <a:srcRect l="0" t="5899" r="3936" b="11238"/>
          <a:stretch/>
        </p:blipFill>
        <p:spPr>
          <a:xfrm>
            <a:off x="357120" y="2154240"/>
            <a:ext cx="3935520" cy="24112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2" descr="C:\Users\Zoran\Downloads\oralna hirurgija\slike\imagepoppp.jpg"/>
          <p:cNvPicPr/>
          <p:nvPr/>
        </p:nvPicPr>
        <p:blipFill>
          <a:blip r:embed="rId2"/>
          <a:stretch/>
        </p:blipFill>
        <p:spPr>
          <a:xfrm>
            <a:off x="5200560" y="2084400"/>
            <a:ext cx="3486240" cy="28796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13"/>
          <p:cNvSpPr/>
          <p:nvPr/>
        </p:nvSpPr>
        <p:spPr>
          <a:xfrm>
            <a:off x="2490840" y="55706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ханичке повре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8208-DA86-4162-B510-545CB77E5B3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1360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TextBox 9"/>
          <p:cNvSpPr/>
          <p:nvPr/>
        </p:nvSpPr>
        <p:spPr>
          <a:xfrm>
            <a:off x="444600" y="1720800"/>
            <a:ext cx="8229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3. ПОВРЕДА СУСЕДНОГ ЗУБА ИЛИ ЗУБА АНТАГОНИ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е услед погрешне апликације клешта преко суседног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 доња вилиц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след неправилног рада са полугом ( тачка ослонца на суседном зубу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7" descr="C:\Users\Zoran\Downloads\oralna hirurgija\slike\slide-29-728 (2).jpg"/>
          <p:cNvPicPr/>
          <p:nvPr/>
        </p:nvPicPr>
        <p:blipFill>
          <a:blip r:embed="rId1"/>
          <a:stretch/>
        </p:blipFill>
        <p:spPr>
          <a:xfrm>
            <a:off x="5934240" y="4084560"/>
            <a:ext cx="2822400" cy="2268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C:\Users\Zoran\Downloads\oralna hirurgija\slike\imagesgfr.jpg"/>
          <p:cNvPicPr/>
          <p:nvPr/>
        </p:nvPicPr>
        <p:blipFill>
          <a:blip r:embed="rId2"/>
          <a:stretch/>
        </p:blipFill>
        <p:spPr>
          <a:xfrm>
            <a:off x="623880" y="4341960"/>
            <a:ext cx="3664080" cy="19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42D1-4FE0-4106-8175-D21470C3DC7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122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TextBox 10"/>
          <p:cNvSpPr/>
          <p:nvPr/>
        </p:nvSpPr>
        <p:spPr>
          <a:xfrm>
            <a:off x="457200" y="170820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4. ПОВРЕДА АЛВЕОЛАРНОГ НАСТА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1" descr="C:\Users\Zoran\Downloads\oralna hirurgija\slike\download (5).jpg"/>
          <p:cNvPicPr/>
          <p:nvPr/>
        </p:nvPicPr>
        <p:blipFill>
          <a:blip r:embed="rId1"/>
          <a:srcRect l="17811" t="0" r="13510" b="1998"/>
          <a:stretch/>
        </p:blipFill>
        <p:spPr>
          <a:xfrm>
            <a:off x="1022400" y="3316320"/>
            <a:ext cx="2798640" cy="2951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2" descr="C:\Users\Zoran\Downloads\oralna hirurgija\slike\imagesdlo.jpg"/>
          <p:cNvPicPr/>
          <p:nvPr/>
        </p:nvPicPr>
        <p:blipFill>
          <a:blip r:embed="rId2"/>
          <a:stretch/>
        </p:blipFill>
        <p:spPr>
          <a:xfrm>
            <a:off x="4900680" y="3424320"/>
            <a:ext cx="3516120" cy="234000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3"/>
          <p:cNvSpPr/>
          <p:nvPr/>
        </p:nvSpPr>
        <p:spPr>
          <a:xfrm>
            <a:off x="746280" y="2598840"/>
            <a:ext cx="72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злози: анатомски, патолошки и јатрог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0B15-9869-4B98-8239-B743DD6D732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122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TextBox 8"/>
          <p:cNvSpPr/>
          <p:nvPr/>
        </p:nvSpPr>
        <p:spPr>
          <a:xfrm>
            <a:off x="444600" y="1515960"/>
            <a:ext cx="81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5. ПРЕЛОМ ТУБЕРА ГОРЊЕ ВИ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9" descr="C:\Users\Zoran\Downloads\oralna hirurgija\slike\imagesCAFNV19O.jpg"/>
          <p:cNvPicPr/>
          <p:nvPr/>
        </p:nvPicPr>
        <p:blipFill>
          <a:blip r:embed="rId1"/>
          <a:stretch/>
        </p:blipFill>
        <p:spPr>
          <a:xfrm>
            <a:off x="885960" y="2176560"/>
            <a:ext cx="2274840" cy="2158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" descr="C:\Users\Zoran\Downloads\oralna hirurgija\slike\image12_w.jpg"/>
          <p:cNvPicPr/>
          <p:nvPr/>
        </p:nvPicPr>
        <p:blipFill>
          <a:blip r:embed="rId2"/>
          <a:stretch/>
        </p:blipFill>
        <p:spPr>
          <a:xfrm>
            <a:off x="5518080" y="1617840"/>
            <a:ext cx="3249720" cy="24843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2"/>
          <p:cNvSpPr/>
          <p:nvPr/>
        </p:nvSpPr>
        <p:spPr>
          <a:xfrm>
            <a:off x="650880" y="4584600"/>
            <a:ext cx="8193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: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1. хируршко вађење зуба и фрактурираног туб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 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2. хируршко вађење зуба и задржавање туб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 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3. имобилизација и фиксација преломљеног тубера заједно са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уб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Date Placeholder 3"/>
          <p:cNvSpPr/>
          <p:nvPr/>
        </p:nvSpPr>
        <p:spPr>
          <a:xfrm>
            <a:off x="0" y="6424560"/>
            <a:ext cx="3754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ACCF-E129-4538-84B7-86E5C830E64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469800" y="1757520"/>
            <a:ext cx="8120160" cy="19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ила потребна за вађење зуба, генерално, зависи од две групе фак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валитет и компактност 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ентални факт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C:\Users\Zoran\Pictures\imagesCAT2I49G.jpg"/>
          <p:cNvPicPr/>
          <p:nvPr/>
        </p:nvPicPr>
        <p:blipFill>
          <a:blip r:embed="rId1"/>
          <a:stretch/>
        </p:blipFill>
        <p:spPr>
          <a:xfrm>
            <a:off x="6345360" y="2284560"/>
            <a:ext cx="2641320" cy="4103640"/>
          </a:xfrm>
          <a:prstGeom prst="rect">
            <a:avLst/>
          </a:prstGeom>
          <a:ln w="0">
            <a:noFill/>
          </a:ln>
        </p:spPr>
      </p:pic>
      <p:sp>
        <p:nvSpPr>
          <p:cNvPr id="74" name="TextBox 9"/>
          <p:cNvSpPr/>
          <p:nvPr/>
        </p:nvSpPr>
        <p:spPr>
          <a:xfrm>
            <a:off x="638280" y="4356000"/>
            <a:ext cx="5810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ађење зуба, по правилу, лакше је из спонгиозе него из компактних делова к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3"/>
          <p:cNvSpPr/>
          <p:nvPr/>
        </p:nvSpPr>
        <p:spPr>
          <a:xfrm>
            <a:off x="0" y="6424560"/>
            <a:ext cx="3935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41AD-1DE0-4696-BB5D-AC6B44DCB43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122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TextBox 8"/>
          <p:cNvSpPr/>
          <p:nvPr/>
        </p:nvSpPr>
        <p:spPr>
          <a:xfrm>
            <a:off x="541440" y="1600200"/>
            <a:ext cx="81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6. ПРЕЛОМ ДОЊЕ ВИ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0" descr="C:\Users\Zoran\Downloads\oralna hirurgija\slike\imagelo.jpg"/>
          <p:cNvPicPr/>
          <p:nvPr/>
        </p:nvPicPr>
        <p:blipFill>
          <a:blip r:embed="rId1"/>
          <a:stretch/>
        </p:blipFill>
        <p:spPr>
          <a:xfrm>
            <a:off x="2143080" y="2371680"/>
            <a:ext cx="4908600" cy="19447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1" descr="C:\Users\Zoran\Downloads\oralna hirurgija\slike\imagesvbvc.jpg"/>
          <p:cNvPicPr/>
          <p:nvPr/>
        </p:nvPicPr>
        <p:blipFill>
          <a:blip r:embed="rId2"/>
          <a:stretch/>
        </p:blipFill>
        <p:spPr>
          <a:xfrm>
            <a:off x="2205000" y="4475160"/>
            <a:ext cx="488952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3"/>
          <p:cNvSpPr/>
          <p:nvPr/>
        </p:nvSpPr>
        <p:spPr>
          <a:xfrm>
            <a:off x="0" y="6424560"/>
            <a:ext cx="3935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44F7-BEB1-41FA-835D-9224BD9917F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122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73" name="Picture 9" descr=""/>
          <p:cNvPicPr/>
          <p:nvPr/>
        </p:nvPicPr>
        <p:blipFill>
          <a:blip r:embed="rId1"/>
          <a:stretch/>
        </p:blipFill>
        <p:spPr>
          <a:xfrm>
            <a:off x="766800" y="1547640"/>
            <a:ext cx="3809880" cy="2870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2" descr="C:\Users\Zoran\Downloads\oralna hirurgija\slike\imagesfrac.jpg"/>
          <p:cNvPicPr/>
          <p:nvPr/>
        </p:nvPicPr>
        <p:blipFill>
          <a:blip r:embed="rId2"/>
          <a:stretch/>
        </p:blipFill>
        <p:spPr>
          <a:xfrm>
            <a:off x="5753160" y="1585800"/>
            <a:ext cx="2838240" cy="29149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7"/>
          <p:cNvSpPr/>
          <p:nvPr/>
        </p:nvSpPr>
        <p:spPr>
          <a:xfrm>
            <a:off x="349200" y="4897440"/>
            <a:ext cx="8637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жељно је извршити привремену имобилизацију, или бар ставити повез доње вилице. На тај начин обезбеђује се мировање фрагмен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 смањује бол, помаже спонтано заустављање крварења и ширење инфек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DF62-668E-47EC-BD90-D5DB4294B12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122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TextBox 8"/>
          <p:cNvSpPr/>
          <p:nvPr/>
        </p:nvSpPr>
        <p:spPr>
          <a:xfrm>
            <a:off x="438120" y="1616040"/>
            <a:ext cx="8242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1"/>
          <p:cNvSpPr/>
          <p:nvPr/>
        </p:nvSpPr>
        <p:spPr>
          <a:xfrm>
            <a:off x="457200" y="1768320"/>
            <a:ext cx="810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7. ЛУКСАЦИЈА ДОЊЕ ВИ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2" descr="C:\Users\Zoran\Downloads\oralna hirurgija\slike\zt04.jpg"/>
          <p:cNvPicPr/>
          <p:nvPr/>
        </p:nvPicPr>
        <p:blipFill>
          <a:blip r:embed="rId1"/>
          <a:stretch/>
        </p:blipFill>
        <p:spPr>
          <a:xfrm>
            <a:off x="538200" y="2876400"/>
            <a:ext cx="3809880" cy="2502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4" descr="http://conseildentaire.files.wordpress.com/2011/03/atm-nelaton-01.jpg"/>
          <p:cNvPicPr/>
          <p:nvPr/>
        </p:nvPicPr>
        <p:blipFill>
          <a:blip r:embed="rId2"/>
          <a:srcRect l="773" t="0" r="0" b="5894"/>
          <a:stretch/>
        </p:blipFill>
        <p:spPr>
          <a:xfrm>
            <a:off x="5354640" y="2727360"/>
            <a:ext cx="3789360" cy="3011400"/>
          </a:xfrm>
          <a:prstGeom prst="rect">
            <a:avLst/>
          </a:prstGeom>
          <a:ln w="0">
            <a:noFill/>
          </a:ln>
        </p:spPr>
      </p:pic>
      <p:sp>
        <p:nvSpPr>
          <p:cNvPr id="284" name="TextBox 14"/>
          <p:cNvSpPr/>
          <p:nvPr/>
        </p:nvSpPr>
        <p:spPr>
          <a:xfrm>
            <a:off x="601560" y="5702400"/>
            <a:ext cx="638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бавезно урадити урадити репозицију мандибу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0" y="6424560"/>
            <a:ext cx="3962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05E1-979D-4F0E-968A-1690933F8E2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122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вађења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TextBox 6"/>
          <p:cNvSpPr/>
          <p:nvPr/>
        </p:nvSpPr>
        <p:spPr>
          <a:xfrm>
            <a:off x="480960" y="1636560"/>
            <a:ext cx="816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8. ПОТИСКИВАЊЕ КОРЕНА У ОКОЛНА ТК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9" descr="C:\Users\Zoran\Downloads\oralna hirurgija\slike\download (6).jpg"/>
          <p:cNvPicPr/>
          <p:nvPr/>
        </p:nvPicPr>
        <p:blipFill>
          <a:blip r:embed="rId1"/>
          <a:stretch/>
        </p:blipFill>
        <p:spPr>
          <a:xfrm>
            <a:off x="2619360" y="2744640"/>
            <a:ext cx="4002120" cy="28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122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</a:t>
            </a: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а </a:t>
            </a:r>
            <a:r>
              <a:rPr b="1" i="1" lang="en-US" sz="4000" spc="-1" strike="noStrike">
                <a:solidFill>
                  <a:srgbClr val="000066"/>
                </a:solidFill>
                <a:latin typeface="Palatino Linotype"/>
              </a:rPr>
              <a:t>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Palatino Linotype"/>
              </a:rPr>
              <a:t>ОРОАНТРАЛНА КОМУНИК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-</a:t>
            </a: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Јатрогена (последица лекарске грешк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-A</a:t>
            </a: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натомски узрокована због односа коренова зуба са синусном шупљи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-</a:t>
            </a: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Утискивање корена у синус (</a:t>
            </a:r>
            <a:r>
              <a:rPr b="0" i="1" lang="sr-Latn-RS" sz="2400" spc="-1" strike="noStrike">
                <a:solidFill>
                  <a:srgbClr val="000000"/>
                </a:solidFill>
                <a:latin typeface="Palatino Linotype"/>
              </a:rPr>
              <a:t>corpus alienum </a:t>
            </a: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sr-Latn-RS" sz="2400" spc="-1" strike="noStrike">
                <a:solidFill>
                  <a:srgbClr val="000000"/>
                </a:solidFill>
                <a:latin typeface="Palatino Linotype"/>
              </a:rPr>
              <a:t>in antro</a:t>
            </a:r>
            <a:r>
              <a:rPr b="0" lang="sr-Latn-RS" sz="24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Palatino Linotype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FB22-AB29-40E5-AEBA-BA80CEF4888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Date Placeholder 3"/>
          <p:cNvSpPr/>
          <p:nvPr/>
        </p:nvSpPr>
        <p:spPr>
          <a:xfrm>
            <a:off x="0" y="6424560"/>
            <a:ext cx="3824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A19E-F6FD-4B53-AF79-BCD30755E17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457200" y="1828800"/>
            <a:ext cx="8132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ентални факт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блик и повијеност, масивност, број и међусобни однос коренова значајно утичу на ток вађења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начајно је из ових разлога пре вађења зуба направити сним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1"/>
          <a:stretch/>
        </p:blipFill>
        <p:spPr>
          <a:xfrm>
            <a:off x="3726000" y="4002120"/>
            <a:ext cx="52578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4680" y="145800"/>
            <a:ext cx="844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дикације и контраиндикације за вађење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FA2F-5B73-46A5-AD0A-8B566E0F746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457200" y="1587600"/>
            <a:ext cx="8169120" cy="48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Palatino Linotype"/>
              </a:rPr>
              <a:t>Индикације за вађење зу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уби са авиталном пулпом ако се не могу излечити применом савремених ендодонских или ендодонско – хируршких мет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ародонтопатични зуби у терминалној фази обољења, када пародонтолошко лечење не би било ефикас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уби који ометају израду задовољавајућих протетских надокнада ( протетичка индикација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уби који ометају корекцију ортодонтске аномал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мпактирани, полуимпактирани и малпонирани зуб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дикације и контраиндикације за вађење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0D5C-BC39-45B9-B1FD-E6E1182E140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480960" y="1563840"/>
            <a:ext cx="819324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Palatino Linotype"/>
              </a:rPr>
              <a:t>Контраиндик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псолутне контраиндикације за вађење зуба не посто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одређеним ситуацијама потребно је одложити вађење зуба ради припреме пацијента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и разлози за одлагање екстракције зуба с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тходно антибиотско лечење са фудројантним флегмонама у орофацијалној реги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нтибиотска заштита пацијената са обољењима ендокарда, пацијенти на дијализи, оболели од хемофилије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мирење акутних и локалних обољења у усној шупљини  (улцеронекротични гингивитис, херпетични стоматитис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струменти за вађење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A90B-5595-4727-B45F-E99F62B81BA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C:\Users\Zoran\Downloads\oralna hirurgija\slike\te_04.jpg"/>
          <p:cNvPicPr/>
          <p:nvPr/>
        </p:nvPicPr>
        <p:blipFill>
          <a:blip r:embed="rId1"/>
          <a:stretch/>
        </p:blipFill>
        <p:spPr>
          <a:xfrm>
            <a:off x="2430360" y="3772080"/>
            <a:ext cx="4178520" cy="2627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C:\Users\Zoran\Downloads\oralna hirurgija\slike\te_03.jpg"/>
          <p:cNvPicPr/>
          <p:nvPr/>
        </p:nvPicPr>
        <p:blipFill>
          <a:blip r:embed="rId2"/>
          <a:stretch/>
        </p:blipFill>
        <p:spPr>
          <a:xfrm>
            <a:off x="2206800" y="1341360"/>
            <a:ext cx="463860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0" y="6424560"/>
            <a:ext cx="3976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B2B8-3A55-4D91-B45B-E7686E5C220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струменти за вађење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1" name="Picture 7" descr="C:\Users\Zoran\Downloads\oralna hirurgija\slike\te_06.jpg"/>
          <p:cNvPicPr/>
          <p:nvPr/>
        </p:nvPicPr>
        <p:blipFill>
          <a:blip r:embed="rId1"/>
          <a:stretch/>
        </p:blipFill>
        <p:spPr>
          <a:xfrm>
            <a:off x="1932120" y="2071800"/>
            <a:ext cx="5014800" cy="34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0" y="6424560"/>
            <a:ext cx="40323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1209-F86B-46AA-B040-47CEBF4564B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струменти за вађење зуб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6" name="Picture 7" descr="C:\Users\Zoran\Downloads\oralna hirurgija\slike\te_05.jpg"/>
          <p:cNvPicPr/>
          <p:nvPr/>
        </p:nvPicPr>
        <p:blipFill>
          <a:blip r:embed="rId1"/>
          <a:stretch/>
        </p:blipFill>
        <p:spPr>
          <a:xfrm>
            <a:off x="496800" y="1733400"/>
            <a:ext cx="1484280" cy="4175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C:\Users\Zoran\Downloads\oralna hirurgija\slike\te_07.jpg"/>
          <p:cNvPicPr/>
          <p:nvPr/>
        </p:nvPicPr>
        <p:blipFill>
          <a:blip r:embed="rId2"/>
          <a:stretch/>
        </p:blipFill>
        <p:spPr>
          <a:xfrm>
            <a:off x="4908600" y="1733400"/>
            <a:ext cx="1463760" cy="43214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8"/>
          <p:cNvSpPr/>
          <p:nvPr/>
        </p:nvSpPr>
        <p:spPr>
          <a:xfrm>
            <a:off x="2081160" y="1889280"/>
            <a:ext cx="24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дни де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2093760" y="2322360"/>
            <a:ext cx="253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појна осов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2117880" y="3778200"/>
            <a:ext cx="25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уч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6508800" y="1828800"/>
            <a:ext cx="24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дни де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6581880" y="2538360"/>
            <a:ext cx="24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Врат полу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3"/>
          <p:cNvSpPr/>
          <p:nvPr/>
        </p:nvSpPr>
        <p:spPr>
          <a:xfrm>
            <a:off x="6713640" y="3873600"/>
            <a:ext cx="24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уч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Kaja</dc:creator>
  <dc:description/>
  <dc:language>en-US</dc:language>
  <cp:lastModifiedBy>Korisnik</cp:lastModifiedBy>
  <dcterms:modified xsi:type="dcterms:W3CDTF">2019-09-09T15:58:56Z</dcterms:modified>
  <cp:revision>1044</cp:revision>
  <dc:subject/>
  <dc:title>NAZIV PREDAVANJA</dc:title>
</cp:coreProperties>
</file>